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10.jpeg" ContentType="image/jpeg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8.wmf" ContentType="image/x-wmf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26D-F5CC-4D39-9080-BB128005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D10-8DB2-4C0C-9A94-14038D81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680-F25A-4A05-BB64-C8C0B4E3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58F-3DE6-49CF-A5E0-B376D99E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8A0A-DC4C-41CB-A999-0E61F938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83C0-F6E5-42D7-A4EC-BB1A40E3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ADE-E003-4065-8842-E6D39C9D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91C-AFB8-4AF0-9D31-B1F74100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EAB4-0760-441A-BD20-CCFD662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FE66-D13C-4780-BBF4-0A3B757C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196-D1A2-49A1-8BDB-09AF8BC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BB7-389B-444A-BF45-F76D2CE6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71B-D8CA-4D49-8F09-E064957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3C07-7B45-496F-A516-E28B7BE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C4A-9FD0-4725-A118-31CCD306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AAC5-AB46-4C63-B577-65870E52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6615-FB69-4F8F-AB43-BD9411C6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830-397A-4ACE-9450-0C0C882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6B2-5A53-4B5C-B54A-FA170ABA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C26-7ECD-4C6F-9509-19A3E44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F7E-15A5-4A95-88AB-502522D1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D75-1B3F-42A8-9A16-395C17C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5DF-3A4C-43BC-A35D-46DCFA0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C13-E9A6-4FA3-BE74-A4078AA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d3b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158-67DC-46A7-A7C8-1635B9AB75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46352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33f27"/>
                </a:gs>
                <a:gs pos="100000">
                  <a:srgbClr val="674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0733-DD3D-4103-A08A-2B33244019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8b27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50states.com/arizona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http://bensguide.gpo.gov/3-5/state/arizona.ht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http://www.50states.com/tree/arizona.htm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981080" y="533520"/>
            <a:ext cx="5639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Arizona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876920"/>
            <a:ext cx="297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30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#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533412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1295280"/>
            <a:ext cx="1600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icrosoft Sans Serif"/>
              </a:rPr>
              <a:t>50 States,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Microsoft Sans Serif"/>
              </a:rPr>
              <a:t>Arizona song</a:t>
            </a:r>
            <a:r>
              <a:rPr b="0" lang="en-US" sz="1200" spc="-1" strike="noStrike">
                <a:solidFill>
                  <a:srgbClr val="ffffff"/>
                </a:solidFill>
                <a:latin typeface="Microsoft Sans Serif"/>
              </a:rPr>
              <a:t>,10/7/2010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Microsoft Sans Serif"/>
                <a:hlinkClick r:id="rId5"/>
              </a:rPr>
              <a:t>www.50states.com/ariz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348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name: Ariz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: phoeni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population: 4,075,0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e entered: Feb. 14, 191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: "God enriches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kname: “the grand canyon state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bird: cactus wr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flower: Saguaro Cactus blos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number: 22 state to jo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ther: hot, dry, sun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song: “Arizo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97560" y="0"/>
            <a:ext cx="274644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56356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467208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328840" cy="182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581280" y="3581280"/>
            <a:ext cx="200520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029200" y="228600"/>
            <a:ext cx="990720" cy="1436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649116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6400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828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1752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Arizona: Map and State Flag"/>
          <p:cNvPicPr/>
          <p:nvPr/>
        </p:nvPicPr>
        <p:blipFill>
          <a:blip r:embed="rId1"/>
          <a:srcRect l="3325" t="0" r="3325" b="71122"/>
          <a:stretch/>
        </p:blipFill>
        <p:spPr>
          <a:xfrm>
            <a:off x="609480" y="990720"/>
            <a:ext cx="213372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izona: Map and State Flag"/>
          <p:cNvPicPr/>
          <p:nvPr/>
        </p:nvPicPr>
        <p:blipFill>
          <a:blip r:embed="rId2"/>
          <a:srcRect l="0" t="40003" r="0" b="0"/>
          <a:stretch/>
        </p:blipFill>
        <p:spPr>
          <a:xfrm>
            <a:off x="5867280" y="137160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5029200"/>
            <a:ext cx="7238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quick fa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October1,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bensguide.gpo.gov/3-5/state/arizon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339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37160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140976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15200" y="0"/>
            <a:ext cx="18288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144792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648320" y="0"/>
            <a:ext cx="133344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4419720"/>
            <a:ext cx="6324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0 States Arizona state tree/October1, 2010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http://www.50states.com/tree/arizon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1:50Z</dcterms:created>
  <dc:creator>install</dc:creator>
  <dc:description/>
  <dc:language>en-US</dc:language>
  <cp:lastModifiedBy>install</cp:lastModifiedBy>
  <dcterms:modified xsi:type="dcterms:W3CDTF">2010-10-14T13:20:27Z</dcterms:modified>
  <cp:revision>10</cp:revision>
  <dc:subject/>
  <dc:title>Slide 1</dc:title>
</cp:coreProperties>
</file>